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1796-BF6C-4D99-8CDF-9E5CD298F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CD10-B731-4B86-A0A1-A8FC6728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7123-54B2-423E-9AAC-55C0F4E7B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6858-F825-4332-BAEA-FCDE42E45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6E11-5CCB-4940-9662-4526474B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6CF0-CB00-4DEB-B78F-5F4E895F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D1BF-A9ED-4D93-A8BE-17A68605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F124-CBCF-44D6-8D51-1E3625D9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A889-FAA0-494E-AB7C-0A8A0714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DC2D-E6E5-4492-A366-51C4782A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CEBC-7141-4D7C-B02F-92FD0FA2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8018-47FA-47F8-BED3-7ABAAE1C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9718-CE6A-4D52-99A0-166070544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onfidence Interval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960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4674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467840" cy="2895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38080" y="3429000"/>
            <a:ext cx="74678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96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2489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7543800" cy="1843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438280" y="4952880"/>
            <a:ext cx="4419720" cy="9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4572000"/>
            <a:ext cx="7620120" cy="1981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7543800" cy="1955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62120" y="2286000"/>
            <a:ext cx="7543800" cy="1447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438280" y="3733920"/>
            <a:ext cx="44197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705720" cy="3327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43000" y="3886200"/>
            <a:ext cx="6705720" cy="1066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143000" y="4952880"/>
            <a:ext cx="67057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kleinb</cp:lastModifiedBy>
  <dcterms:modified xsi:type="dcterms:W3CDTF">2003-11-17T22:17:36Z</dcterms:modified>
  <cp:revision>44</cp:revision>
  <dc:subject/>
  <dc:title>PowerPoint Presentation</dc:title>
</cp:coreProperties>
</file>